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6032576"/>
        <c:axId val="77175528"/>
      </c:barChart>
      <c:catAx>
        <c:axId val="6603257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7175528"/>
        <c:crosses val="autoZero"/>
        <c:auto val="1"/>
        <c:lblAlgn val="ctr"/>
        <c:lblOffset val="100"/>
        <c:noMultiLvlLbl val="0"/>
      </c:catAx>
      <c:valAx>
        <c:axId val="7717552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03257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A24DD-1639-43D8-B1BB-9CD685D8A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3547E-7B4C-4543-A676-717E59A92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17B04-DA91-40E7-84C7-33DF61631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2E77E-652F-4D0C-8236-8828C5770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90C9A-33D2-470C-8798-E32100FD9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07BD8-2447-4A28-BE00-43CB1A377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44437-0BF8-498F-9EB3-F03812BFE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7F66A-68E6-4855-8CC5-155F4302C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9B367-B2E6-46D9-BBE7-140E6A068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ACA5C-11C3-4A01-8373-756E1A718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7E52B-20EE-489A-8716-11F1A3FB2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E0624-8011-46C5-A7D2-F93129982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80176E-AC90-4781-BCA4-5D1498F5301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