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21335"/>
        <c:axId val="78319700"/>
      </c:barChart>
      <c:catAx>
        <c:axId val="82321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19700"/>
        <c:crosses val="autoZero"/>
        <c:auto val="1"/>
        <c:lblAlgn val="ctr"/>
        <c:lblOffset val="100"/>
        <c:noMultiLvlLbl val="0"/>
      </c:catAx>
      <c:valAx>
        <c:axId val="78319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21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231-CB55-4BD3-9C71-D0F78950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362-0041-47AA-B3FB-E90D973C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323-4B92-4890-91F6-A4AD10C6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690-44BD-4245-A49E-42913C79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2E5-EBE2-4AED-BA9D-17182FDF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273-8C07-4970-94A5-A0464E32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E71-EAF4-474F-9CE2-EF0D8426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4E9-1E96-42ED-B7AD-2E51A002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FE2-B846-48A4-B169-E5CF43D7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2C7-137A-4B46-9046-ADFCE5C2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81F-B656-4F0E-9497-D87A1F00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9EE-4077-4B3E-9B4B-1E76018B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4AC80-ED88-45EB-904C-93F847A19C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