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48390"/>
        <c:axId val="94934067"/>
      </c:barChart>
      <c:catAx>
        <c:axId val="20048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34067"/>
        <c:crosses val="autoZero"/>
        <c:auto val="1"/>
        <c:lblAlgn val="ctr"/>
        <c:lblOffset val="100"/>
        <c:noMultiLvlLbl val="0"/>
      </c:catAx>
      <c:valAx>
        <c:axId val="94934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48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D6D-1B71-48D2-8C14-3B149533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810-156D-4187-8E3C-6BA973D2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E3D-B819-4D86-8708-524BC9CD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152-1F73-4E27-81E8-69466AB5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7F6-5AC6-40C8-B2C7-9BDC0C47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9A5-DB3E-443B-86A5-49DA50D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C79-8B15-407C-BB3B-B9730319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174-A02A-4B71-AAFE-4B6EEC4C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AC4-B755-4070-A828-88915F57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BE1-CE50-4BB2-A5DD-0F9E310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39F-1C5E-4B8D-8B57-D2548D9F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D7F-9EAF-4D4A-9E2E-D5A8944F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E0F20-8E39-44EC-8774-BB2CC88A3C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