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291763"/>
        <c:axId val="57485339"/>
      </c:barChart>
      <c:catAx>
        <c:axId val="832917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85339"/>
        <c:crosses val="autoZero"/>
        <c:auto val="1"/>
        <c:lblAlgn val="ctr"/>
        <c:lblOffset val="100"/>
        <c:noMultiLvlLbl val="0"/>
      </c:catAx>
      <c:valAx>
        <c:axId val="574853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917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82F1-806B-4A42-B3D3-096E8F7E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64BE-A80C-42CB-9706-7A8EDE79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ABDA-B01C-4FC7-9B30-AF343635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F6A1-9347-4A98-8892-3AF9FBB2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56AB-3BC7-4854-90E6-2676A89E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3BDA-35DE-41CB-BDB7-7B171085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D868-3EED-49DB-A766-8104D079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141A-F82B-4994-9403-B958F3D8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1917-5143-4CA1-9708-711313FC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6B1C-8470-4D07-A789-D968B693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CE72-6264-4C3B-9DC7-F181EB07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E2C7-69BE-4545-AE8D-8F053069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C608A-195E-4F5C-8192-2BF6F261C1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