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47678"/>
        <c:axId val="63201674"/>
      </c:barChart>
      <c:catAx>
        <c:axId val="79476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201674"/>
        <c:crosses val="autoZero"/>
        <c:auto val="1"/>
        <c:lblAlgn val="ctr"/>
        <c:lblOffset val="100"/>
        <c:noMultiLvlLbl val="0"/>
      </c:catAx>
      <c:valAx>
        <c:axId val="632016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476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CB6C-C4D5-42B3-87DF-363D0DE06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FA4F-CD34-4D95-8AAD-DBAA104C4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3C75-2C4B-41D5-9F27-9CC53F27C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DB4D-0708-44F9-A7DE-7FCDDB226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02F0-C89F-4219-9691-7A23F8F62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2A52-417C-440B-BE5C-B7FA80CF4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93A2-E66D-45A7-B696-2487C0E99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52BE-A548-4184-8145-E751372F5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7970-6005-4A32-870E-30ED0A3AD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A915-FBBE-4F3D-A1AB-7124203CA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2A62-55C0-4AFF-B88F-6DC3EF7FD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DB30-5AA0-4270-B625-D1DCEF4D2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A06DE6-EB15-4D24-9556-630C1CA6BB7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