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19061"/>
        <c:axId val="64581844"/>
      </c:barChart>
      <c:catAx>
        <c:axId val="48719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81844"/>
        <c:crosses val="autoZero"/>
        <c:auto val="1"/>
        <c:lblAlgn val="ctr"/>
        <c:lblOffset val="100"/>
        <c:noMultiLvlLbl val="0"/>
      </c:catAx>
      <c:valAx>
        <c:axId val="64581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19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3EE-7903-42DB-98E5-3E0E6D1E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78E-0360-4318-9D1B-274973B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97B-CFBD-48A6-B756-9B9A5D9E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980-BDA1-425C-ACD8-04BC2A38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6D8-FCDD-42D0-AD61-17B9E1A2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31D-590E-4C0E-A8C9-D0D94DA3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E40-6DBE-433A-924B-10677E44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AF0-1D93-42F9-B2EE-812061A2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970-55ED-4C3E-B317-64ADF0A5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898-0C05-4CE3-B490-213A7D73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67A-01B6-45C0-93AC-7389343E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171-97BD-4F80-9112-FEBEBC5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06BEC-26D0-45BA-8324-6C2CFBF5C9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